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27D-728E-4F5F-94A1-B797DAFB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6EF-62A3-41C8-834C-FC98077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489-A0CC-41B9-BA3A-0CBBE2D9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C85-E264-4849-A0B5-D2D01268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7FA-AEA9-4118-B1A8-D6A0866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6B5-C71B-435D-8476-E0C84CAC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E6C-DBA3-44BC-A671-EC476D4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954-CA3B-4990-B58C-DCE6DE2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F35-65EA-4857-AD6B-D9BA62CB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224-D408-432D-8FB7-4FCF7B54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F14-37AD-4F5A-A937-ADE16FE0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A5F-30C7-4771-8DC3-D343295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BA66-2F32-4825-98EB-70D47A6C8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6 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 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j milost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z Bož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vätý vít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znovu z 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esť Bohu vzdáv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deň od svetskej már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 vedie k Božej rad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privádza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k rad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a 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 pokoj daruj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sŕdc nám lásku vl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 povznes k 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uj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našich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slabých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prosieb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hlas</a:t>
            </a:r>
            <a:br>
              <a:rPr sz="40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 odpusť viny, očisť nás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ám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klo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a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k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 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nám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 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o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is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nás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ď, Duchu Svätý, prí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 svoju udeľ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ieme stáli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ás sprav si pravdy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 v službe lásky vierou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íťazne boj dokonč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j 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ne boj doko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11:44Z</dcterms:modified>
  <cp:revision>22</cp:revision>
  <dc:subject/>
  <dc:title>Je veľký náš Pán, on slávy je Kráľ Nech do všetkých strán  spev vrúcnych znie chvál.</dc:title>
</cp:coreProperties>
</file>